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6796-E332-4F6F-A34A-C8FFF5E51E8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(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drmccarthysciencehgms.blogspot.com/2010/03/endothermic-vs-exothermic-chemical.html)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Recall collision theory from Grade 10 Sc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931D-30A0-4FEC-8072-FB04703FEC9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glogster.com/glog.php?glog_id=10884793&amp;scale=54&amp;isprofile=true)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4600-A382-49CC-9105-AA58CA37AE1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0E31-5A09-400C-B8CE-EBCBBCFDA66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C7C3-F536-49A5-B08B-75F5C40B332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E0FB-D9D3-47D4-8ED5-A9964C98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1F6A-CD10-4E2A-90A8-8F315BBE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D5DB-945A-46EB-87F6-EB9AC6D8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6F65-8446-4DB9-864D-B9306F13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65CE-B789-4945-98C1-0E629CE5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DD69-966C-43B4-AB6E-A6E62F3F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01B3-2D6F-4848-8932-80E40317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7B42-4510-48D9-A43A-72427426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6B97-656F-4188-98D4-1F15B441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45A2-0C0E-4BDC-A7F4-DA137CA5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A61F-8B69-4CE9-9A99-A16397E7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5CC3-6F8D-4F7E-AD56-830D8628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6EEF-DACC-4037-9071-E06A39807DDF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umanasinc.com/webcontent/animations/content/enzymes/enzyme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zymes &amp; Activation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Arial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4173480" y="407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tivation Energy (E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all chemical reactions require an initial input of energy, called </a:t>
            </a:r>
            <a:r>
              <a:rPr b="1" lang="en-CA" sz="3100" spc="-1" strike="noStrike">
                <a:solidFill>
                  <a:srgbClr val="000000"/>
                </a:solidFill>
                <a:latin typeface="Arial"/>
              </a:rPr>
              <a:t>activation energy (E</a:t>
            </a:r>
            <a:r>
              <a:rPr b="1" lang="en-CA" sz="31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CA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Text Placeholder 2" descr=""/>
          <p:cNvPicPr/>
          <p:nvPr/>
        </p:nvPicPr>
        <p:blipFill>
          <a:blip r:embed="rId1"/>
          <a:stretch/>
        </p:blipFill>
        <p:spPr>
          <a:xfrm>
            <a:off x="4881600" y="1600200"/>
            <a:ext cx="3576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zymes and E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Text Placeholder 2" descr=""/>
          <p:cNvPicPr/>
          <p:nvPr/>
        </p:nvPicPr>
        <p:blipFill>
          <a:blip r:embed="rId1"/>
          <a:stretch/>
        </p:blipFill>
        <p:spPr>
          <a:xfrm>
            <a:off x="1595520" y="1600200"/>
            <a:ext cx="5952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nzymes increase the rate of a reaction by lowering the activation energy (E</a:t>
            </a:r>
            <a:r>
              <a:rPr b="0" lang="en-CA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How is E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reduc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ak bonds form between substrate and enzy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nzyme provides proper orientation of substrate(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nzyme puts strain on bonds of substrate(s), making them easier to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ation Energy &amp; Enzym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umanasinc.com/webcontent/animations/content/enzymes/enzyme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0:10:58Z</dcterms:created>
  <dc:creator>jen</dc:creator>
  <dc:description/>
  <dc:language>en-US</dc:language>
  <cp:lastModifiedBy>rubina khan</cp:lastModifiedBy>
  <dcterms:modified xsi:type="dcterms:W3CDTF">2013-09-19T15:36:17Z</dcterms:modified>
  <cp:revision>186</cp:revision>
  <dc:subject/>
  <dc:title>Enzymes</dc:title>
</cp:coreProperties>
</file>